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71AA-7454-459A-8792-DEAE80639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BB4D-DCD7-4AFC-A5C7-061C029CE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8410-3166-4E5C-864F-130C305F9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CAD2-6B6A-4303-B757-3F0F2420D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6866C-6AC8-472B-82AA-E4D538B78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9C02D-53C3-4873-9B94-86B71CE3C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064DB-BFB6-4490-AAE1-B1A579C89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BDC29-95BB-49E6-B477-74DDCDFE5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5D09B-6F21-48D1-9FC7-C2FC502D2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49EF6-44BC-46F5-BA14-F81E4F02C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D2FBB-FFAA-423E-9889-AB09A6AE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023C-2EDA-47CD-8DFE-C774C39FA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41620-270B-4990-B087-91A4EAD6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2CD81-A244-405B-80A3-FA1EC0E2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5457E-8167-48DD-8EE0-B77A86AFB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F9539-9638-40B9-B7D7-2312E8CC3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F1097-1422-4832-AC8D-D48295379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304B3-6B46-4B66-ABFF-C7DFD6A4E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CD702-C9E2-444E-8B54-B5DA951D3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5170A-11C0-4E7D-B9B3-D3C2AF710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A8FE7-B38A-4AAC-B05E-988EC18C0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E61EC-392C-4DDD-A0FC-3235F050A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0D9A-BD28-41D8-93D8-88D2A090E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6B138-4B52-414A-93C7-13D29C894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C9E4C-0EF6-4230-BD94-2AA7229F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F6313-D684-4284-BF53-7FFBF20B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22C7C-4107-41EA-AFD2-40C4BFB4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F3E28-1274-4D73-BCC0-1C9FC23A1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FAE4A-CB6F-4E0E-BC03-093F6D93E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262B9-1C30-41C4-AE97-868328427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A0175-7B32-4A10-BD99-469F9C5D1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36B0A-CFD8-43AA-8578-1960B5BB0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A8F3F-54CF-46AA-A691-6A1F958E9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4337-E957-431A-AF11-E19CD323C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3D482-D551-4FFB-ADD1-5CD00A932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A4AD1-D979-47D2-A48E-B8C9EA984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5E10E-8801-45C9-A28E-4091A3A6C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7B2B6-6664-40AF-BA82-74B776D6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43155-33CB-459B-882A-16EFE5F3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C208A-D6A6-470A-9F8A-527C3173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721C1-089A-4E5E-BE64-6FAF9B97A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966D8-6680-41FD-BD64-68A466E4C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06C5D-0120-4CA8-A04A-8D0D36A8C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4CCD-2F56-4A35-A043-2491A6787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C74A-13E2-46D2-AB20-379B813C0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CED6-166D-4D13-8790-E102E508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1E8A-E6A8-4FAD-8E7A-75A93E02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A985-AA5A-456F-A1B9-34685C0D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87DB1-B192-4725-8BDE-83540D96ACC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0D2F1-E56E-4F22-8219-4C65F3E4C52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15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A4FF5-32D2-4AB7-8699-BD2CCB5BA7C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64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0626E-8168-4433-8463-C13914A6149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Introduction to</a:t>
            </a:r>
            <a:br>
              <a:rPr sz="5700"/>
            </a:b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The Short Story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Mr. Smith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English 1 (H)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Objectiv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tudents will identify the elements of a short story in order to complete a graphic organizer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d79c"/>
                </a:solidFill>
                <a:latin typeface="Arial"/>
              </a:rPr>
              <a:t>Short Stori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short story is one that holds all the elements of a story, in a shorter format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so see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novell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hort Story Elements: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etting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tt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time and place of the story’s action. Setting includes ideas, customs, values, and belief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x: Long ago, in a galaxy far, far aw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fbfff"/>
                </a:solidFill>
                <a:latin typeface="Arial"/>
              </a:rPr>
              <a:t>Short Story Elements:</a:t>
            </a:r>
            <a:br>
              <a:rPr sz="4000"/>
            </a:br>
            <a:r>
              <a:rPr b="0" lang="en-US" sz="4000" spc="-1" strike="noStrike">
                <a:solidFill>
                  <a:srgbClr val="9fbfff"/>
                </a:solidFill>
                <a:latin typeface="Arial"/>
              </a:rPr>
              <a:t>Character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racte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re the actors in a story’s plot. They can be people, animals, or whatever the writer choo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tagoni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the main charac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tagoni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in conflict with the main character.  Not all stories have antagonis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. The characters i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Little Red Riding Hoo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re LRRH, the Big Bad Wolf, Grandma, and the woodsm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tagoni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Little Red Riding Ho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tagoni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he Big Bad Wol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ort Story Element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lict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li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struggle between opposing forces in a story or pl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ernal confli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ists when a character struggles against some outside for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al confli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ists within the mind of the charac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applica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 vs. 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 vs. se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 vs. n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 vs. socie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 vs.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 vs. f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Short Story Elements: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Point of View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int of Vie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fers to the relationship of the narrator, or storyteller, to the sto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-person point of vie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the narrator is a character in the story, and referred to as “I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-person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narrator reveals the thoughts of only one character, referring to them as “he” or “sh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-person omnisci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narrator knows everything about the story’s events and can reveal thoughts of all charact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Short Story Elements: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Theme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m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the central idea or message of a story often a perception about life or human na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ted them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directly presented in a sto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lied them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ust be inferred by considering all the elements of a story and asking what message about life is convey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c0c0"/>
                </a:solidFill>
                <a:latin typeface="Arial"/>
              </a:rPr>
              <a:t>Short Story Elements:</a:t>
            </a:r>
            <a:br>
              <a:rPr sz="4000"/>
            </a:br>
            <a:r>
              <a:rPr b="0" lang="en-US" sz="4000" spc="-1" strike="noStrike">
                <a:solidFill>
                  <a:srgbClr val="c0c0c0"/>
                </a:solidFill>
                <a:latin typeface="Arial"/>
              </a:rPr>
              <a:t>Plot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the sequence of events in a story. Each event causes or leads to the nex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st plots develop in five stag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osi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 troduces the stories characters, setting, and confli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ising ac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ccurs as complications, twists, or intensifications of the conflict occu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ma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the emotional high point of the s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lling ac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the logical result of the clima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olu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esents the final outcome of the s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12:04:35Z</dcterms:created>
  <dc:creator>Wake County Public Schools</dc:creator>
  <dc:description/>
  <dc:language>en-US</dc:language>
  <cp:lastModifiedBy>Smith-Breland</cp:lastModifiedBy>
  <dcterms:modified xsi:type="dcterms:W3CDTF">2009-11-11T19:23:57Z</dcterms:modified>
  <cp:revision>3</cp:revision>
  <dc:subject/>
  <dc:title>Introduction to The Short Story</dc:title>
</cp:coreProperties>
</file>